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15D-7232-46E6-82E7-6A33D112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176-2135-4D0D-8CE7-49B57E4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E8D-6DDB-445E-9CF1-51928889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62B-FB2F-4D3A-B46C-873F0A6F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16C-B921-48E6-AD59-709C2F0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87B-6051-459A-BB06-5711599F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0B7-31ED-4E35-8EC2-91F392A2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868-954D-4CC5-8A04-1A78170E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260-0F21-48E1-8506-012C41A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7CF-BE66-48C3-A1CF-5CF638D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21C-3246-4384-906F-F86193F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220-117F-48EA-90B8-1EDB000C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CAC-64DC-41F4-8E13-8CAE6552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8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447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1828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ange of a substance from a solid to a vapor (gas) without passing through the liquid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666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place in solids that have vapor pressure higher than atmospheric pressure at or near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Iodine undergoes sublimation; dry ic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40384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: freeze dried coffee, solid air fresheners, seperation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Chang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aph which shows the relationships among the three phases of a substance in a sealed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133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line on the phase change diagram indicates the conditions of pressure and temperature at which 2 phases exist in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3276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line on the diagram separates the 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862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int on the diagram where all three phases can exist in equilibrium with one another is the tri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648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ater’s triple point is at a temp of 0.016 and pressure of 0.61 k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hase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3244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the melting points of ionic compounds, the melting points of molecular solids tend to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rShape1"/>
          <p:cNvSpPr/>
          <p:nvPr/>
        </p:nvSpPr>
        <p:spPr>
          <a:xfrm>
            <a:off x="1133640" y="2824200"/>
            <a:ext cx="83484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group of particles in a crystal that retains the shape of the crystal is called the ____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ystal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rShape1"/>
          <p:cNvSpPr/>
          <p:nvPr/>
        </p:nvSpPr>
        <p:spPr>
          <a:xfrm>
            <a:off x="1133640" y="2158920"/>
            <a:ext cx="117792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stals are classified into how many different crystal systems?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CorShape1"/>
          <p:cNvSpPr/>
          <p:nvPr/>
        </p:nvSpPr>
        <p:spPr>
          <a:xfrm>
            <a:off x="1133640" y="3184560"/>
            <a:ext cx="203040" cy="426960"/>
          </a:xfrm>
          <a:custGeom>
            <a:avLst/>
            <a:gdLst>
              <a:gd name="textAreaLeft" fmla="*/ 9720 w 203040"/>
              <a:gd name="textAreaRight" fmla="*/ 193320 w 203040"/>
              <a:gd name="textAreaTop" fmla="*/ 9720 h 426960"/>
              <a:gd name="textAreaBottom" fmla="*/ 417240 h 426960"/>
            </a:gdLst>
            <a:ahLst/>
            <a:rect l="textAreaLeft" t="textAreaTop" r="textAreaRight" b="textAreaBottom"/>
            <a:pathLst>
              <a:path w="21600" h="45379">
                <a:moveTo>
                  <a:pt x="3600" y="0"/>
                </a:moveTo>
                <a:arcTo wR="3600" hR="3600" stAng="16200000" swAng="-5400000"/>
                <a:lnTo>
                  <a:pt x="0" y="41779"/>
                </a:lnTo>
                <a:arcTo wR="3600" hR="3600" stAng="10800000" swAng="-5400000"/>
                <a:lnTo>
                  <a:pt x="18000" y="453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 change of a substance from a solid to a gas is called ____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li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1133640" y="2158920"/>
            <a:ext cx="174276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conditions of pressure and temperature, at which two phases coexist in equilibrium, shown on a phase diagra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TPChart"/>
          <p:cNvGraphicFramePr/>
          <p:nvPr/>
        </p:nvGraphicFramePr>
        <p:xfrm>
          <a:off x="685800" y="1841400"/>
          <a:ext cx="802656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1400"/>
                    <a:ext cx="802656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CorShape1"/>
          <p:cNvSpPr/>
          <p:nvPr/>
        </p:nvSpPr>
        <p:spPr>
          <a:xfrm>
            <a:off x="1224000" y="2098800"/>
            <a:ext cx="216000" cy="215640"/>
          </a:xfrm>
          <a:prstGeom prst="rightArrow">
            <a:avLst>
              <a:gd name="adj1" fmla="val 43981"/>
              <a:gd name="adj2" fmla="val 50895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a line separating th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endpoints of the line segment separating the 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planar regions between lines in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a triple point on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crystal systems differ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angles between faces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number of edges of equal length on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n the angles between faces and the number of edges of equal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rystal systems do not diff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rShape1"/>
          <p:cNvSpPr/>
          <p:nvPr/>
        </p:nvSpPr>
        <p:spPr>
          <a:xfrm>
            <a:off x="1133640" y="3119400"/>
            <a:ext cx="3079440" cy="1004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2:53:24Z</dcterms:created>
  <dc:creator>jpak</dc:creator>
  <dc:description/>
  <dc:language>en-US</dc:language>
  <cp:lastModifiedBy>Farwell Area Schools</cp:lastModifiedBy>
  <dcterms:modified xsi:type="dcterms:W3CDTF">2009-03-27T16:40:25Z</dcterms:modified>
  <cp:revision>12</cp:revision>
  <dc:subject/>
  <dc:title>Note Guide 8-4</dc:title>
</cp:coreProperties>
</file>